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BE7-DB40-466E-8C73-2A611F7E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594-786D-45B1-83FA-FB660562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6E1-3E0C-4594-A0AE-8D8AA022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94B-4967-424B-BEC7-1F59650C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45D-18B9-4D84-AF3E-28B57B12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4A1-F90A-4EFA-96A2-D59BACB8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D74-E257-42C3-8468-0CCFC16A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552-D6C4-4FC1-ABCB-5F07C1F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427-0E11-402E-806F-CF58F745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E1B-0FC8-4059-BB02-AD5FB7F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FCA-923F-4E7C-AF30-9CD4DD57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EA7-1323-44CA-B705-9AD4F6D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6A9-0C61-43C8-A1EF-8CC04A754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805680" y="1494000"/>
            <a:ext cx="754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Title Here (Helvetica, Bold, 32 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ore/Bridging Projec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0206"/>
                </a:solidFill>
                <a:latin typeface="Arial"/>
              </a:rPr>
              <a:t>Enzyme Function Initiative (E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Committ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FI-logo-final-color"/>
          <p:cNvPicPr/>
          <p:nvPr/>
        </p:nvPicPr>
        <p:blipFill>
          <a:blip r:embed="rId1"/>
          <a:stretch/>
        </p:blipFill>
        <p:spPr>
          <a:xfrm>
            <a:off x="76320" y="19044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mark_bold"/>
          <p:cNvPicPr/>
          <p:nvPr/>
        </p:nvPicPr>
        <p:blipFill>
          <a:blip r:embed="rId2"/>
          <a:stretch/>
        </p:blipFill>
        <p:spPr>
          <a:xfrm>
            <a:off x="8736120" y="235080"/>
            <a:ext cx="338040" cy="438120"/>
          </a:xfrm>
          <a:prstGeom prst="rect">
            <a:avLst/>
          </a:prstGeom>
          <a:ln w="0">
            <a:noFill/>
          </a:ln>
        </p:spPr>
      </p:pic>
      <p:cxnSp>
        <p:nvCxnSpPr>
          <p:cNvPr id="45" name="Straight Arrow Connector 6"/>
          <p:cNvCxnSpPr/>
          <p:nvPr/>
        </p:nvCxnSpPr>
        <p:spPr>
          <a:xfrm flipV="1">
            <a:off x="8076240" y="837720"/>
            <a:ext cx="533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Box 7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university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2"/>
          <p:cNvSpPr/>
          <p:nvPr/>
        </p:nvSpPr>
        <p:spPr>
          <a:xfrm>
            <a:off x="1420560" y="22860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slide title here (Helvetica, Bold, 24 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7:03:55Z</dcterms:created>
  <dc:creator>John Gerlt</dc:creator>
  <dc:description/>
  <dc:language>en-US</dc:language>
  <cp:lastModifiedBy>John Gerlt</cp:lastModifiedBy>
  <dcterms:modified xsi:type="dcterms:W3CDTF">2011-10-09T14:37:13Z</dcterms:modified>
  <cp:revision>10</cp:revision>
  <dc:subject/>
  <dc:title>PowerPoint Presentation</dc:title>
</cp:coreProperties>
</file>